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864B-3217-4570-ADA2-6FC421D5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5154-6502-4B13-B997-85A3629B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C10A-3699-47D1-B507-2F29ABFB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B9FD-4AA0-496E-BE11-FC092AA9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DA04-4919-416D-94AB-1482A049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92FF-43D5-4B7F-AE29-D31ED0D8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4C6A-E7E4-4BE5-8C85-87C81180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B0CD-5072-4C4D-AE29-0803DF67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80E8-0063-498A-925D-FB67E4A0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1686-2745-4D3F-89E3-04A372F1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6B6C-0B1C-462C-85A2-B214CEB6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E923-5BBA-490C-9A73-4F585128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92BF-470F-4748-BDC6-0D6E0854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5847-9AB7-49D5-8006-EAA7C691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7489-4852-440E-8394-F28CA14A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B58C-C13D-491B-96FA-CD7C32D2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4176-060D-4BE7-8B73-046E9068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7EFD-CDB8-4DF4-99CD-2B59E824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B9AC-8BCF-46D3-88AC-F7011B73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FA65-BCE4-4540-8EBA-271A5B53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9182-293A-456C-9901-3DA33DAF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E110-76AD-4F80-9C40-4DDEB3BF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FAF6-C955-4DE7-AF2B-E5D6E67B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093F-76FD-450F-9272-0855FB2B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85DB-CC4A-4B24-BAE5-B9D70F1CA3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1C30-C208-494E-92FA-1EF77003D9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DOA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2133720"/>
            <a:ext cx="67816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ish the analog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lard : Duck :: ______ : t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ke : ______ :: motor : ru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reewri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2742840"/>
            <a:ext cx="8007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non-stop until the buzzer goes of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ake out your homework sentence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/read some of th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 about if the sentences make sen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no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Exercise 1: Which of the two terms makes the sentence correct? Enter the correct word on your paper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n’t it a pity that this beautiful edifice is going to be ____________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) raised (B) raz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ndra should have been _________ for being punct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 commended (B) repriman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  When it comes into power, a despotic government usually ___________ freedom of speech and pr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) bans (B) perm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_______, there is nothing to dispu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 dissent (B) conc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n’t you sometimes wished that you could retract something you __________ you had sai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 regretted (B) wi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b7"/>
                </a:solidFill>
                <a:latin typeface="Arial Black"/>
              </a:rPr>
              <a:t>Exercise 2: On your paper, write the correct letter from column 2 that matches column 1.</a:t>
            </a:r>
            <a:endParaRPr b="1" lang="en-US" sz="2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uct (into a club or socie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special ceremon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essive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orical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ding p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essive d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unt from a partic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out a back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ker’s do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thless d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 flag with white skull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b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1143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umn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12193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umn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1752480"/>
            <a:ext cx="27432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inel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te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lly Ro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f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Exercise 3: Each word or expression in column 1 has an ANTONYM (or opposite) in column 2. On your paper, enter the letter of the correct ANTONYM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fr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s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led to s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cra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not with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rgued ab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5238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umn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2286000"/>
            <a:ext cx="30477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ol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cei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ltit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u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ra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en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or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unic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po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86400" y="1600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umn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Final exercise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2133720"/>
            <a:ext cx="6781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five words and draw/cut out pictures to create some kind of visual example of what the word means. (Make sure all drawings are appropriate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06:37:57Z</dcterms:created>
  <dc:creator>Angie</dc:creator>
  <dc:description/>
  <dc:language>en-US</dc:language>
  <cp:lastModifiedBy>rebecca</cp:lastModifiedBy>
  <dcterms:modified xsi:type="dcterms:W3CDTF">2009-01-07T20:08:43Z</dcterms:modified>
  <cp:revision>3</cp:revision>
  <dc:subject/>
  <dc:title> DOA</dc:title>
</cp:coreProperties>
</file>